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30a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"/>
          <p:cNvSpPr/>
          <p:nvPr/>
        </p:nvSpPr>
        <p:spPr>
          <a:xfrm>
            <a:off x="971640" y="652140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Lucida Sans"/>
              </a:rPr>
              <a:t>IN72K – Tecnologías de información y rediseño de 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826920" y="1916280"/>
            <a:ext cx="74901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Sans"/>
              </a:rPr>
              <a:t>IN72k</a:t>
            </a:r>
            <a:br>
              <a:rPr sz="72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Tecnologías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información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y rediseño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proces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Auxiliar 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0" y="6165360"/>
            <a:ext cx="9072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"/>
              </a:rPr>
              <a:t>10 de Agosto de 200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"/>
          <p:cNvSpPr/>
          <p:nvPr/>
        </p:nvSpPr>
        <p:spPr>
          <a:xfrm>
            <a:off x="507672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Prof. Aux.: Matías Pulido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mpulido@dii.uchile.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4680" y="2938320"/>
            <a:ext cx="9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360" y="765000"/>
          <a:ext cx="8384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765000"/>
                    <a:ext cx="8384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836640"/>
          <a:ext cx="4454640" cy="914400"/>
        </p:xfrm>
        <a:graphic>
          <a:graphicData uri="http://schemas.openxmlformats.org/drawingml/2006/table">
            <a:tbl>
              <a:tblPr/>
              <a:tblGrid>
                <a:gridCol w="944640"/>
                <a:gridCol w="351000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NewsGoth Lt BT"/>
                          <a:ea typeface="Times New Roman"/>
                        </a:rPr>
                        <a:t>FACULTAD DE CIENCIAS FÍSICAS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íster en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ón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Evaluación de la situación actua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: Desarrollo de produc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Usuarios satisfechos con sistema (90%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in embargo, no se satisfacen gustos más específicos (sabores de los productos de la canast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: Licit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Altos precios: Licitaciones de corto plazo, costo financiero para proveedores por pagos tardíos, efecto látigo por pedidos sorpres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Falta de responsable de este proceso: No hay incentivos a aumentar su eficienci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Evaluación de la situación actua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: Certificación de calid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ermite eliminar reflujos y prevenir enfermedades (mejor nivel de servicio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Lentitud desde que se aprueba un lote de producción hasta que se emite el certificado (20 días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: Orden, distribución y entrega (1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Largos tiempos en envío de órdenes (uso de valija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Largos tiempos de respuesta obligan al sobre stock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o hay incentivos a disminuir stoc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Falta de control de inventarios produce mermas 20%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Evaluación de la situación actua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: Orden, distribución y entrega (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Organismo centralizador nacional de pedidos permite mayor presión sobre proveedores irresponsabl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o hay seguimiento sobre el trato sanitario de los product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Bajo nivel de control sobre merma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Preguntas (Elija 5)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Cuál es el cliente de todo el proceso (Administración de los programas solidarios)? ¿Existen métricas para medir la satisfacción de este client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Identifique 1 tiempo muerto. ¿Cómo lo eliminaría??Qué valor aportaría esto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Identifique 1 tiempo de ciclo.¿Cómo lo eliminaría?¿Qué valor aportaría esto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Qué tipo de tic podría aportar valor al proceso?¿Cómo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Qué subproceso agregaría?¿Por qué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Qué subproceso eliminaría?¿Por qué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ución del 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Think out of the box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Organizado en base a patrones de negocios (O. Barr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alabras clav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Orientación al clien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Valor de la informació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ordinació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T.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ución del 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finición de las direcciones de cambi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Coordinación: Eliminación del efecto látigo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Reestructuración: Nuevos procesos, nuevas actividades, nuevos responsables, nuevas relacione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Control: T.I. -&gt; Información –&gt; Contro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Lucida Sans"/>
              </a:rPr>
              <a:t>Solución del caso</a:t>
            </a:r>
            <a:endParaRPr b="0" lang="en-US" sz="36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Implantación, puesta en marcha y oper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Cómo enfrentar el cambio organizacional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Plan piloto por etapas o implantación completa inmediata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(Propuesto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genda 10 Agost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Breve resumen auxiliar anteri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tuación y problemas actua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ejoras al sistema actual (trabajo en grup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olución al caso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IDEF0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étodo desarrollado para modelar las decisiones, acciones y actividades de una organización o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deriva del modelo de análisis estructurado ( DFD 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yor capacidad de análisis y comunicación de perspectiva funcional sistémic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Identifica actividades, requerimientos, cuales funcionan bien y cuales n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IDEF0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ctividades son representables a través de inputs, controls, mechanisms y outpu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xposición gradual del detall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ntre 3 y 6 actividades por nive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594360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IDEF0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lgunas regl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umero de actividades por nivel de descomposi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iagrama de contex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ontexto acotado a medioambient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ombres únicos para actividad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o existe especificación tempor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IO W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BPW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etodología de Trabaj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84280"/>
            <a:ext cx="5976720" cy="792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ción del modelo de negocio y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492280"/>
            <a:ext cx="5976720" cy="792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571920"/>
            <a:ext cx="5976720" cy="7920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ción de dirección(es) de cambio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579920"/>
            <a:ext cx="5976720" cy="792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lantación del rediseñ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516640"/>
            <a:ext cx="5976720" cy="7920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sta en Marcha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328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436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5372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1268280"/>
            <a:ext cx="208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arga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iveles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10120" y="256536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ét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3429000"/>
            <a:ext cx="2266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Coord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Reestruc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1484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2421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3500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" dur="1" fill="hold"/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stema nacional solid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nastas de alimentos a familias de escasas recurs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ás de 1500 puntos de distribu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1,2 MM de beneficiari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US 30 MM de inversión anual en estos program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Graves problemas de eficienc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Preguntas (Elija 5)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Cuál es el cliente de todo el proceso (Administración de los programas solidarios)? ¿Existen métricas para medir la satisfacción de este client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Identifique 1 tiempo muerto. ¿Cómo lo eliminaría??Qué valor aportaría esto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Identifique 1 tiempo de ciclo.¿Cómo lo eliminaría?¿Qué valor aportaría esto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Qué tipo de tic podría aportar valor al proceso?¿Cómo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Qué subproceso agregaría?¿Por qué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Qué subproceso eliminaría?¿Por qué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Definición del modelo de negocio y del Proce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133720"/>
            <a:ext cx="7561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5 macro proce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sarrollo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icitación de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ertificación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Orden, distribución y entr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cro procesos=Macro procesos (recursos, configuración, carga de trabajo, niveles de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932360" y="1916280"/>
            <a:ext cx="3943080" cy="2377080"/>
            <a:chOff x="4932360" y="1916280"/>
            <a:chExt cx="3943080" cy="2377080"/>
          </a:xfrm>
        </p:grpSpPr>
        <p:grpSp>
          <p:nvGrpSpPr>
            <p:cNvPr id="78" name=""/>
            <p:cNvGrpSpPr/>
            <p:nvPr/>
          </p:nvGrpSpPr>
          <p:grpSpPr>
            <a:xfrm>
              <a:off x="5114160" y="2043360"/>
              <a:ext cx="1095120" cy="507960"/>
              <a:chOff x="5114160" y="2043360"/>
              <a:chExt cx="1095120" cy="507960"/>
            </a:xfrm>
          </p:grpSpPr>
          <p:sp>
            <p:nvSpPr>
              <p:cNvPr id="79" name=""/>
              <p:cNvSpPr/>
              <p:nvPr/>
            </p:nvSpPr>
            <p:spPr>
              <a:xfrm>
                <a:off x="5114160" y="2043360"/>
                <a:ext cx="1095120" cy="5079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114160" y="2043360"/>
                <a:ext cx="1095120" cy="5079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14160" y="2043360"/>
                <a:ext cx="1095120" cy="5079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5114160" y="2043360"/>
              <a:ext cx="1095120" cy="507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20360" y="2228760"/>
              <a:ext cx="153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ceso Mac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03040" y="2551680"/>
              <a:ext cx="50040" cy="190080"/>
              <a:chOff x="5603040" y="2551680"/>
              <a:chExt cx="50040" cy="19008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5625720" y="2583000"/>
                <a:ext cx="720" cy="158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03040" y="2551680"/>
                <a:ext cx="50040" cy="392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53" y="46"/>
                    </a:moveTo>
                    <a:lnTo>
                      <a:pt x="24" y="0"/>
                    </a:lnTo>
                    <a:lnTo>
                      <a:pt x="0" y="46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932360" y="2277720"/>
              <a:ext cx="181440" cy="42480"/>
              <a:chOff x="4932360" y="2277720"/>
              <a:chExt cx="181440" cy="42480"/>
            </a:xfrm>
          </p:grpSpPr>
          <p:sp>
            <p:nvSpPr>
              <p:cNvPr id="88" name=""/>
              <p:cNvSpPr/>
              <p:nvPr/>
            </p:nvSpPr>
            <p:spPr>
              <a:xfrm>
                <a:off x="4932360" y="2297160"/>
                <a:ext cx="14508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68800" y="2277720"/>
                <a:ext cx="45000" cy="42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50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598360" y="1916280"/>
              <a:ext cx="50040" cy="126720"/>
              <a:chOff x="5598360" y="1916280"/>
              <a:chExt cx="50040" cy="126720"/>
            </a:xfrm>
          </p:grpSpPr>
          <p:sp>
            <p:nvSpPr>
              <p:cNvPr id="91" name=""/>
              <p:cNvSpPr/>
              <p:nvPr/>
            </p:nvSpPr>
            <p:spPr>
              <a:xfrm>
                <a:off x="5625720" y="1916280"/>
                <a:ext cx="720" cy="95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98360" y="2003760"/>
                <a:ext cx="50040" cy="392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0"/>
                    </a:moveTo>
                    <a:lnTo>
                      <a:pt x="29" y="46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209640" y="2273400"/>
              <a:ext cx="219600" cy="43560"/>
              <a:chOff x="6209640" y="2273400"/>
              <a:chExt cx="219600" cy="4356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6246360" y="2297160"/>
                <a:ext cx="18288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09640" y="2273400"/>
                <a:ext cx="46080" cy="435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0"/>
                    </a:moveTo>
                    <a:lnTo>
                      <a:pt x="0" y="28"/>
                    </a:lnTo>
                    <a:lnTo>
                      <a:pt x="49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118920" y="2864880"/>
              <a:ext cx="278280" cy="17388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18920" y="2864880"/>
              <a:ext cx="278280" cy="173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18920" y="2864880"/>
              <a:ext cx="278280" cy="17388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18920" y="2864880"/>
              <a:ext cx="278280" cy="173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38760" y="3011400"/>
              <a:ext cx="278280" cy="20592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38760" y="3011400"/>
              <a:ext cx="278280" cy="205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38760" y="3011400"/>
              <a:ext cx="278280" cy="20592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38760" y="3011400"/>
              <a:ext cx="278280" cy="205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22960" y="3158280"/>
              <a:ext cx="347040" cy="23436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22960" y="3158280"/>
              <a:ext cx="347040" cy="234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22960" y="3158280"/>
              <a:ext cx="347040" cy="23436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22960" y="3158280"/>
              <a:ext cx="347040" cy="2343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50160" y="2718000"/>
              <a:ext cx="1561320" cy="762120"/>
            </a:xfrm>
            <a:prstGeom prst="rect">
              <a:avLst/>
            </a:prstGeom>
            <a:noFill/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08600" y="2543040"/>
              <a:ext cx="241200" cy="674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08600" y="2543040"/>
              <a:ext cx="1177560" cy="174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876640" y="2932560"/>
              <a:ext cx="242280" cy="42480"/>
              <a:chOff x="5876640" y="2932560"/>
              <a:chExt cx="242280" cy="42480"/>
            </a:xfrm>
          </p:grpSpPr>
          <p:sp>
            <p:nvSpPr>
              <p:cNvPr id="112" name=""/>
              <p:cNvSpPr/>
              <p:nvPr/>
            </p:nvSpPr>
            <p:spPr>
              <a:xfrm>
                <a:off x="5876640" y="2952000"/>
                <a:ext cx="20556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72840" y="2932560"/>
                <a:ext cx="46080" cy="4248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50"/>
                    </a:moveTo>
                    <a:lnTo>
                      <a:pt x="49" y="23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534360" y="3079440"/>
              <a:ext cx="104040" cy="43560"/>
              <a:chOff x="6534360" y="3079440"/>
              <a:chExt cx="104040" cy="43560"/>
            </a:xfrm>
          </p:grpSpPr>
          <p:sp>
            <p:nvSpPr>
              <p:cNvPr id="115" name=""/>
              <p:cNvSpPr/>
              <p:nvPr/>
            </p:nvSpPr>
            <p:spPr>
              <a:xfrm>
                <a:off x="6534360" y="3098880"/>
                <a:ext cx="6768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93400" y="3079440"/>
                <a:ext cx="45000" cy="4356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7053840" y="3258000"/>
              <a:ext cx="68400" cy="43560"/>
              <a:chOff x="7053840" y="3258000"/>
              <a:chExt cx="68400" cy="43560"/>
            </a:xfrm>
          </p:grpSpPr>
          <p:sp>
            <p:nvSpPr>
              <p:cNvPr id="118" name=""/>
              <p:cNvSpPr/>
              <p:nvPr/>
            </p:nvSpPr>
            <p:spPr>
              <a:xfrm>
                <a:off x="7053840" y="3277440"/>
                <a:ext cx="3204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7240" y="3258000"/>
                <a:ext cx="45000" cy="4356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397200" y="2952360"/>
              <a:ext cx="136800" cy="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34360" y="2952360"/>
              <a:ext cx="720" cy="14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17400" y="3099240"/>
              <a:ext cx="136440" cy="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53840" y="3099240"/>
              <a:ext cx="720" cy="178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716160" y="2424240"/>
              <a:ext cx="50760" cy="586440"/>
              <a:chOff x="6716160" y="2424240"/>
              <a:chExt cx="50760" cy="586440"/>
            </a:xfrm>
          </p:grpSpPr>
          <p:sp>
            <p:nvSpPr>
              <p:cNvPr id="125" name=""/>
              <p:cNvSpPr/>
              <p:nvPr/>
            </p:nvSpPr>
            <p:spPr>
              <a:xfrm>
                <a:off x="6743160" y="2424240"/>
                <a:ext cx="720" cy="555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16160" y="297144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0" y="0"/>
                    </a:moveTo>
                    <a:lnTo>
                      <a:pt x="29" y="46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269120" y="2864880"/>
              <a:ext cx="49680" cy="293040"/>
              <a:chOff x="7269120" y="2864880"/>
              <a:chExt cx="49680" cy="293040"/>
            </a:xfrm>
          </p:grpSpPr>
          <p:sp>
            <p:nvSpPr>
              <p:cNvPr id="128" name=""/>
              <p:cNvSpPr/>
              <p:nvPr/>
            </p:nvSpPr>
            <p:spPr>
              <a:xfrm>
                <a:off x="7296480" y="2864880"/>
                <a:ext cx="720" cy="261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9120" y="311868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0"/>
                    </a:moveTo>
                    <a:lnTo>
                      <a:pt x="29" y="46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753240" y="3217680"/>
              <a:ext cx="49680" cy="380880"/>
              <a:chOff x="6753240" y="3217680"/>
              <a:chExt cx="49680" cy="38088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6775560" y="3249360"/>
                <a:ext cx="720" cy="349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53240" y="3217680"/>
                <a:ext cx="49680" cy="399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53" y="47"/>
                    </a:moveTo>
                    <a:lnTo>
                      <a:pt x="24" y="0"/>
                    </a:lnTo>
                    <a:lnTo>
                      <a:pt x="0" y="47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470000" y="3258000"/>
              <a:ext cx="345960" cy="43560"/>
              <a:chOff x="7470000" y="3258000"/>
              <a:chExt cx="345960" cy="43560"/>
            </a:xfrm>
          </p:grpSpPr>
          <p:sp>
            <p:nvSpPr>
              <p:cNvPr id="134" name=""/>
              <p:cNvSpPr/>
              <p:nvPr/>
            </p:nvSpPr>
            <p:spPr>
              <a:xfrm>
                <a:off x="7470000" y="3277440"/>
                <a:ext cx="31032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70960" y="3258000"/>
                <a:ext cx="45000" cy="4356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7108560" y="3448440"/>
              <a:ext cx="1561320" cy="76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7680" y="3595320"/>
              <a:ext cx="278280" cy="173880"/>
            </a:xfrm>
            <a:prstGeom prst="rect">
              <a:avLst/>
            </a:prstGeom>
            <a:solidFill>
              <a:srgbClr val="a3b2c1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98240" y="3742200"/>
              <a:ext cx="278280" cy="205920"/>
            </a:xfrm>
            <a:prstGeom prst="rect">
              <a:avLst/>
            </a:prstGeom>
            <a:solidFill>
              <a:srgbClr val="a3b2c1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2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82440" y="3889080"/>
              <a:ext cx="346320" cy="234360"/>
            </a:xfrm>
            <a:prstGeom prst="rect">
              <a:avLst/>
            </a:prstGeom>
            <a:solidFill>
              <a:srgbClr val="a3b2c1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67000" y="3217680"/>
              <a:ext cx="224640" cy="82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7000" y="3217680"/>
              <a:ext cx="255600" cy="22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936120" y="3662280"/>
              <a:ext cx="240840" cy="43560"/>
              <a:chOff x="6936120" y="3662280"/>
              <a:chExt cx="240840" cy="43560"/>
            </a:xfrm>
          </p:grpSpPr>
          <p:sp>
            <p:nvSpPr>
              <p:cNvPr id="143" name=""/>
              <p:cNvSpPr/>
              <p:nvPr/>
            </p:nvSpPr>
            <p:spPr>
              <a:xfrm>
                <a:off x="6936120" y="3681720"/>
                <a:ext cx="20448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31960" y="3662280"/>
                <a:ext cx="45000" cy="4356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7592760" y="3809160"/>
              <a:ext cx="105480" cy="43560"/>
              <a:chOff x="7592760" y="3809160"/>
              <a:chExt cx="105480" cy="43560"/>
            </a:xfrm>
          </p:grpSpPr>
          <p:sp>
            <p:nvSpPr>
              <p:cNvPr id="146" name=""/>
              <p:cNvSpPr/>
              <p:nvPr/>
            </p:nvSpPr>
            <p:spPr>
              <a:xfrm>
                <a:off x="7592760" y="3829680"/>
                <a:ext cx="6876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52160" y="3809160"/>
                <a:ext cx="46080" cy="435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51"/>
                    </a:moveTo>
                    <a:lnTo>
                      <a:pt x="49" y="24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8113320" y="3987720"/>
              <a:ext cx="68760" cy="43560"/>
              <a:chOff x="8113320" y="3987720"/>
              <a:chExt cx="68760" cy="43560"/>
            </a:xfrm>
          </p:grpSpPr>
          <p:sp>
            <p:nvSpPr>
              <p:cNvPr id="149" name=""/>
              <p:cNvSpPr/>
              <p:nvPr/>
            </p:nvSpPr>
            <p:spPr>
              <a:xfrm>
                <a:off x="8113320" y="4008240"/>
                <a:ext cx="3204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36000" y="3987720"/>
                <a:ext cx="46080" cy="435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51"/>
                    </a:moveTo>
                    <a:lnTo>
                      <a:pt x="49" y="24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455960" y="3682080"/>
              <a:ext cx="136440" cy="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92760" y="3682080"/>
              <a:ext cx="72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76880" y="3829680"/>
              <a:ext cx="136440" cy="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13320" y="3829680"/>
              <a:ext cx="720" cy="178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776000" y="3153960"/>
              <a:ext cx="49680" cy="587520"/>
              <a:chOff x="7776000" y="3153960"/>
              <a:chExt cx="49680" cy="587520"/>
            </a:xfrm>
          </p:grpSpPr>
          <p:sp>
            <p:nvSpPr>
              <p:cNvPr id="156" name=""/>
              <p:cNvSpPr/>
              <p:nvPr/>
            </p:nvSpPr>
            <p:spPr>
              <a:xfrm>
                <a:off x="7803360" y="3153960"/>
                <a:ext cx="720" cy="556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76000" y="370224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0"/>
                    </a:moveTo>
                    <a:lnTo>
                      <a:pt x="29" y="46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327520" y="3595320"/>
              <a:ext cx="51120" cy="293040"/>
              <a:chOff x="8327520" y="3595320"/>
              <a:chExt cx="51120" cy="293040"/>
            </a:xfrm>
          </p:grpSpPr>
          <p:sp>
            <p:nvSpPr>
              <p:cNvPr id="159" name=""/>
              <p:cNvSpPr/>
              <p:nvPr/>
            </p:nvSpPr>
            <p:spPr>
              <a:xfrm>
                <a:off x="8354880" y="3595320"/>
                <a:ext cx="720" cy="261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27520" y="3849120"/>
                <a:ext cx="51120" cy="3924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0" y="0"/>
                    </a:moveTo>
                    <a:lnTo>
                      <a:pt x="29" y="46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816320" y="3948120"/>
              <a:ext cx="46080" cy="345240"/>
              <a:chOff x="7816320" y="3948120"/>
              <a:chExt cx="46080" cy="34524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7837200" y="3976560"/>
                <a:ext cx="720" cy="316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816320" y="3948120"/>
                <a:ext cx="46080" cy="356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53" y="46"/>
                    </a:moveTo>
                    <a:lnTo>
                      <a:pt x="24" y="0"/>
                    </a:lnTo>
                    <a:lnTo>
                      <a:pt x="0" y="46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528760" y="3987720"/>
              <a:ext cx="346680" cy="43560"/>
              <a:chOff x="8528760" y="3987720"/>
              <a:chExt cx="346680" cy="43560"/>
            </a:xfrm>
          </p:grpSpPr>
          <p:sp>
            <p:nvSpPr>
              <p:cNvPr id="165" name=""/>
              <p:cNvSpPr/>
              <p:nvPr/>
            </p:nvSpPr>
            <p:spPr>
              <a:xfrm>
                <a:off x="8528760" y="4008240"/>
                <a:ext cx="309960" cy="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830440" y="3987720"/>
                <a:ext cx="45000" cy="4356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4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5160960" y="270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1773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12840" y="13413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1400" y="206064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(Niveles de servic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47040" y="1773360"/>
            <a:ext cx="11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(Carg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trabaj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9:24:10Z</dcterms:created>
  <dc:creator>Laura Bergells</dc:creator>
  <dc:description>Visit www.maniactive.com for Free PowerPoint Templates.</dc:description>
  <dc:language>en-US</dc:language>
  <cp:lastModifiedBy>Matías</cp:lastModifiedBy>
  <dcterms:modified xsi:type="dcterms:W3CDTF">2005-08-10T00:30:22Z</dcterms:modified>
  <cp:revision>277</cp:revision>
  <dc:subject/>
  <dc:title>Lead Follow-Up: Hot, Warm &amp; Cold  CRM Conference,  October 2001 </dc:title>
</cp:coreProperties>
</file>